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03A8-5D77-49FC-B1EE-BBA3153F9E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A947-5DF6-4EF2-9ACE-489E5D216D8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0162-7F3A-48E6-82B8-FE1E699E3FC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CCBF-D8D0-4C0B-B2E7-393930A6FD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F60-FA0D-4C72-A0D3-DF3DAFC7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F40-694D-4C36-9BE2-5A717D2D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B83-E217-4525-8A9A-899884D8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1EB-E95C-4F52-B118-9E90C2B0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AEE5-E1CF-45C3-80DB-A355C8D5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C84F-A04C-41F6-8650-D19CAF4F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3ADC-B4A1-4445-BBE4-EFDDBE9F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0C5E-E4EC-48D5-AF7D-9AB0E626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A182-3EC3-4DBC-87D6-F166B1C3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6984-41C9-480E-8580-2207873A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2BB3-2109-4315-AA45-C2B299BE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3E9-7837-42D5-B22D-8BA0C08D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2BFC-832D-47F3-8492-875BEFD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CF3F-DA9C-44A3-A413-90953143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37CE-1FFE-4638-9480-CDCCB1BB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2D36-8621-4491-9D8B-D472FB8D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F322-56C7-4818-BC4A-ADC432D7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9300D-6AFC-48E6-9334-7037F7FE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8F8A9-3968-42F3-AB64-45A5A585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7E43-38D0-49DD-87FB-8324A40F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0A98-602B-4805-80D4-3B26D86B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656A-A690-41A2-8FD0-69806CB2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2EE-6C6F-44D5-8D81-CCBAE0AE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D531-B7C3-408B-8392-F962604E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62CA-0F62-4D69-85DB-6F055BEE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15A3-8BA3-4023-896C-CBC6FC7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B2E1-2C88-42EA-B989-B587AC1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129F-35D6-4DA6-9EFA-6D2844D0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603D4-9DE0-4B5B-B751-2D00E75B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EF36-D9FF-4328-8764-A9BC7F79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861-13B2-4778-9465-C24F16D5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A7B-A39B-4A11-BE75-C4F2A606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81F-837F-4A7D-97FA-AA39FDD7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8AD-9963-4C72-ABF9-C9D23407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261-F14C-418E-AB8F-D5859180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CA1-D89E-45DD-A0F5-49866054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0890-DB18-4FC4-BD73-FC1EED4A18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A10C-481D-4868-B2C0-9FCCACF8AF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7F2C-CA26-4A34-8A41-C626E20C12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78_&#1075;&#1086;&#1076;" TargetMode="External"/><Relationship Id="rId2" Type="http://schemas.openxmlformats.org/officeDocument/2006/relationships/hyperlink" Target="http://ru.wikipedia.org/wiki/&#1041;&#1077;&#1088;&#1085;&#1072;&#1088;,_&#1050;&#1083;&#1086;&#1076;" TargetMode="External"/><Relationship Id="rId3" Type="http://schemas.openxmlformats.org/officeDocument/2006/relationships/hyperlink" Target="http://ru.wikipedia.org/wiki/&#1057;&#1064;&#1040;" TargetMode="External"/><Relationship Id="rId4" Type="http://schemas.openxmlformats.org/officeDocument/2006/relationships/hyperlink" Target="http://ru.wikipedia.org/wiki/&#1060;&#1080;&#1079;&#1080;&#1086;&#1083;&#1086;&#1075;" TargetMode="External"/><Relationship Id="rId5" Type="http://schemas.openxmlformats.org/officeDocument/2006/relationships/hyperlink" Target="http://ru.wikipedia.org/wiki/&#1059;&#1086;&#1083;&#1090;&#1077;&#1088;_&#1050;&#1077;&#1085;&#1085;&#1086;&#1085;" TargetMode="External"/><Relationship Id="rId6" Type="http://schemas.openxmlformats.org/officeDocument/2006/relationships/hyperlink" Target="http://ru.wikipedia.org/wiki/1932_&#1075;&#1086;&#1076;" TargetMode="External"/><Relationship Id="rId7" Type="http://schemas.openxmlformats.org/officeDocument/2006/relationships/hyperlink" Target="http://ru.wikipedia.org/wiki/&#1055;&#1088;&#1086;&#1094;&#1077;&#1089;&#1089;" TargetMode="External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доровье как норма реакции на окружающую среду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Oval 4"/>
          <p:cNvSpPr/>
          <p:nvPr/>
        </p:nvSpPr>
        <p:spPr>
          <a:xfrm>
            <a:off x="1066680" y="2057400"/>
            <a:ext cx="1524240" cy="144792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львеоляр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04920" y="3733920"/>
            <a:ext cx="4495680" cy="53316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легких    О2 + Нв = Нв 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019920" y="2819520"/>
            <a:ext cx="1523880" cy="14475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львеоляр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419720" y="4648320"/>
            <a:ext cx="4343400" cy="198108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творенный в плазме крови СО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гидрокарбона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Нв СО2 = Нв + 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лег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6858000" y="41144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зообмен в легк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азообмен в тканях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1066680" y="2057400"/>
            <a:ext cx="1524240" cy="144792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канев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дк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04920" y="3733920"/>
            <a:ext cx="4495680" cy="190476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творенный в плазме крови СО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бикарбона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Нв СО2 = Нв + 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тка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6019920" y="2819520"/>
            <a:ext cx="1523880" cy="14475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канев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дк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4648320" y="4724280"/>
            <a:ext cx="4343400" cy="137160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вО2 = О2 + Н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тка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6858000" y="41144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легочной вентиляции на выделение СО2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280" y="1405080"/>
          <a:ext cx="8763120" cy="5452920"/>
        </p:xfrm>
        <a:graphic>
          <a:graphicData uri="http://schemas.openxmlformats.org/drawingml/2006/table">
            <a:tbl>
              <a:tblPr/>
              <a:tblGrid>
                <a:gridCol w="3483000"/>
                <a:gridCol w="2467080"/>
                <a:gridCol w="2813040"/>
              </a:tblGrid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Уровень легоч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вентиля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Нару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Биохимические изме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Гиповентиляция 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-задержка выделения</a:t>
                      </a: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СО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при заболеваниях органов дыхания, интоксикаци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Дыхате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ацидоз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Умень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концентрации бикарбонатов, сдвиг рН крови в кислую строн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Гипервентиляция 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Избыточное выделение</a:t>
                      </a: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СО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(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ри интенсивной мышечной работе, восхождении на большие высот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Дыхательный алкало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Сдвиг рН крови в щелочную строну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400" y="417240"/>
            <a:ext cx="825804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воды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: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ойчивым системам необходимы комбинации из обоих типов обратной связи. Тогда как отрицательная обратная связь позволяет вернуться к гомеостатическому состоянию, положительная обратная связь используется для перехода к совершенно новому (и, вполне может быть, менее желанному) состоянию гомеостаза, — такая ситуация называется «метастабильность». 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ы превращения углеводов в организм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04920" y="1981080"/>
            <a:ext cx="281916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отовая пол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0880" y="350532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5791320" y="220968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5715000" y="3581280"/>
            <a:ext cx="121932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12"/>
          <p:cNvSpPr/>
          <p:nvPr/>
        </p:nvSpPr>
        <p:spPr>
          <a:xfrm>
            <a:off x="5791320" y="419112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457200" y="525780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ыш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5181480" y="5715000"/>
            <a:ext cx="6858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562720" y="541008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9"/>
          <p:cNvSpPr/>
          <p:nvPr/>
        </p:nvSpPr>
        <p:spPr>
          <a:xfrm>
            <a:off x="6324480" y="4038480"/>
            <a:ext cx="0" cy="152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ы превращения углеводов в организм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28600" y="1752480"/>
            <a:ext cx="297180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1 группа – превращен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углеводов в рото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пол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1.Сравните вкусов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ачества крахмала и глюкоз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2.Капните 1 каплю р-ра йод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на поверхность кусочка хлеб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акое вещество содержит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 хлебе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3.Наберите в пробирк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орцию слюны. Положит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 нее небольшое количе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ахмала, добавьте 1 каплю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р-ра йода. Нагрейте слег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(не более 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37 С)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робирку с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орцией слюны.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ак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изменения в пробирк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роисходят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352680" y="1752480"/>
            <a:ext cx="281952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2 группа- превращ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углеводов в пече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Сделайте вывод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Многочисленные анализ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ови показали, что посл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ормления у животны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(человека) в воротной в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ечени (сосуд, приносящ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овь в печень из орган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ищеварения) содержит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0,3%, а в нижней пол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ене(сосуд, выносящ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овь из печени) 0,12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глюкоз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6324480" y="1752480"/>
            <a:ext cx="281952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3 группа –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превращ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углеводов в мышц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Решите задачу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Сколько глюкоз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одверглос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окислению, ес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организ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израсходовал 200 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ислорода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Сколько энерги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ыделилось 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рассчитанную масс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глюкозы, если 1 мо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глюкозы дает 152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Дж энергии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ы превращения углеводов в организм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304920" y="1981080"/>
            <a:ext cx="281916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отовая пол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685800" y="1219320"/>
            <a:ext cx="2057400" cy="685800"/>
          </a:xfrm>
          <a:prstGeom prst="downArrowCallout">
            <a:avLst>
              <a:gd name="adj1" fmla="val 75007"/>
              <a:gd name="adj2" fmla="val 7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ищ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886200" y="1295280"/>
            <a:ext cx="4876920" cy="12956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Ферменты слю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Крахмал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юк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3200400" y="22096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80880" y="350532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3962520" y="2971800"/>
            <a:ext cx="4876560" cy="14479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нсул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юкоза                         Гликог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дренал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икоген                       Глюк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5791320" y="220968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5715000" y="3581280"/>
            <a:ext cx="121932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5791320" y="419112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457200" y="525780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ыш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3962520" y="4876920"/>
            <a:ext cx="4876560" cy="1295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р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юкоза             углекислый газ, в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5181480" y="5715000"/>
            <a:ext cx="6858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5562720" y="541008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6324480" y="4038480"/>
            <a:ext cx="0" cy="152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23"/>
          <p:cNvSpPr/>
          <p:nvPr/>
        </p:nvSpPr>
        <p:spPr>
          <a:xfrm>
            <a:off x="3352680" y="5562720"/>
            <a:ext cx="60984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данным Всемирной организации здравоохранения, среди химических соединений, используемых в промышленном масштабе, примерно 40 тыс.  вредны для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228600" y="259092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хронических отравлениях ртутью наблюдаются признаки поражения ЦНС, эмоциональная неустойчивость, нарушение сна, головные бол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8088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одуктах сгорания бензина 90% приходится на содержание свинца, который поступая в организм через кожу и слизистые, а также с пищей, водой, через дыхательные пути и пищеварительный тракт, вызывает поражение нервной и кровеносной систем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685800" y="804240"/>
            <a:ext cx="7661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№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ельная сжигает в сутки  10т угля, содержащего 84% углерода, 5% водорода, 3,5% серы,   5% воды и 2,5% негорючих примесей. Рассчитайте  расход кислорода воздуха на сжигание углерода-основного компонента угля (учитывать два возможных случая горения углерода с образованием  угарного газа и углекислого газ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533520" y="901080"/>
            <a:ext cx="749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№2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диусе 5 км вокруг химического завода ощущается легкий запах сероводорода.  Анализ проб воздуха показал, что газ распространяется на высоту до 2 км, служит причиной образования кислотных дождей. Рассчитайте, сколько сернистого газа (оксида серы (4) ) получится в результате взаимодействия 0.01л сероводорода с кислородом воздух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533520" y="685800"/>
            <a:ext cx="82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едостаток соли в организме может привести к головокружению, обмороку, нарушению сердечной деятельности, снижению аппетита, уменьшению количества воды в крови и орган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едостаток белков приводит к задержке роста, малокровию, выпадению воло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275120" y="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читайте текс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ой вывод вы можете сделать на основе прочитанног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04920" y="2438280"/>
            <a:ext cx="84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Чрезмерное потребление соли вредно для здоровья – нарушается деятельность сердца, почек, появляются отеки ног, повышается кровяное давл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28600" y="3471120"/>
            <a:ext cx="860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тдельные клетки и группы клеток человеческого организма чрезвычайно чувствительны к изменению окружающей их среды. Что же касается целого организма, то границы изменений  внешней среды, которые он может переносить, значительно шире, чем у отдельных клеток. Клетки человека нормально функционируют лишь при температуре 36-380 С. Повышение или снижение температуры за пределы этих границ приводит к нарушению функций клеток. Человек может нормально существовать при значительно более широких колебаниях температуры внешней среды. В клетках поддерживается постоянное количество воды и минеральных веществ. Организм же может переносить и водное голодание, и избыточное поступление воды и соле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609480" y="-2167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№3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анализируйте таблицу «Выбросы  ( в тыс.т./ год) в атмосферу города с населением  1млн. челове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80880" y="1371600"/>
          <a:ext cx="8217000" cy="4022640"/>
        </p:xfrm>
        <a:graphic>
          <a:graphicData uri="http://schemas.openxmlformats.org/drawingml/2006/table">
            <a:tbl>
              <a:tblPr/>
              <a:tblGrid>
                <a:gridCol w="6472440"/>
                <a:gridCol w="1744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гредиенты  атмосферных выб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лекислый г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ы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ческие вещества ( фенол, бензол, спирты, растворител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анистый кал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единения   свин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арный г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шья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139"/>
          <p:cNvSpPr/>
          <p:nvPr/>
        </p:nvSpPr>
        <p:spPr>
          <a:xfrm>
            <a:off x="457200" y="540900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делайте расчеты выбросов в атмосферу нашего города с населением…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лайте вывод, могут ли выбросы загрязняющих веществ в атмосферу оставлять « свой след на земл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доровье – это не только отсутствие болезней и физических недостатков. Это состояние полного физического, психологического и социального комфорта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Мощность техногенного воздействия на живую природу достигла такой величины, что возникла опасность необратимых изменений за счет нарушения слагавшихся в течение миллионов лет природных динамических равновесий, в том числе и гомеостаз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ность биологических систем противостоять изменениям и сохранять динамическое относительное постоянство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а и свойств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239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ГОМЕОСТА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io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греч) – подобный, одинаков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si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греч.) – неподвижность, состоя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2600" y="428760"/>
            <a:ext cx="7815240" cy="5929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ко представление о постоянстве внутренней среды было сформулировано ещё в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1878 г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французским учёным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Клодом Бернаром</a:t>
            </a:r>
            <a:br>
              <a:rPr sz="3200"/>
            </a:b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Американский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физиолог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5"/>
              </a:rPr>
              <a:t>Уолтер Кеннон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(Walter B. Cannon) в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6"/>
              </a:rPr>
              <a:t>1932 году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в своей книге «The Wisdom of the Body» («Мудрость тела») предложил этот термин как название для «координированных физиологических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7"/>
              </a:rPr>
              <a:t>процессов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которое поддерживают большинство устойчивых состояний организма».</a:t>
            </a:r>
            <a:endParaRPr b="0" lang="en-US" sz="29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ханизмы гомеостаз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гда происходит изменение в переменных, наблюдаются два основных типа обратной связи, или фидбэка, на которые реагирует систем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араметрам гомеостаза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 относится химический состав крови, влажность кожи, состав суставной жидкости, ритмы сердечных сокращений, кислотно-щелочной баланс, осмотическое давление, соотношение электролитов (натрия, кальция, хлора, магния, фосфора), содержания глюкозы, числа форменных элементов крови и другие параметры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Отрицательная обратная связь, выражающаяся в реакции, при которой система отвечает так, чтобы изменить направление изменения на противоположное. Так как обратная связь служит сохранению постоянства системы, это позволяет соблюдать гомеостаз.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*Например, когда концентрация углекислого газа в организме человека увеличивается, лёгким приходит сигнал к увеличению их активности и выдыханию большего количество углекислого газа.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*Терморегуляция — другой пример отрицательной обратной связи. Когда температура тела повышается (или понижается) терморецепторы в коже и гипоталамусе регистрируют изменение, вызывая сигнал из мозга. Данный сигнал, в свою очередь, вызывает ответ — понижение температуры (или повышение).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ительная обратная связь, которая выражается в усилении изменения переменной. Она оказывает дестабилизирующий эффект, поэтому не приводит к гомеостазу. Положительная обратная связь реже встречается в естественных системах, но также имеет своё применени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Например, в нервах пороговый электрический потенциал вызывает генерацию намного большего потенциала действия. Свёртывание крови и события при рождении можно привести в качестве других примеров положительной обратной связи.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8T13:49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